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064-4B38-4B03-900E-A7D90B1B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F3C-E3F2-4FAE-9484-D06826D9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563-3467-4428-A6C8-0492244A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61E-6AC1-47B2-B22F-F5DE90C7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9F11-9637-45CF-8AFD-0B315A35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030-297D-43AA-9BF6-75D00EA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297D-4516-4C78-9859-F451FD75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225-E2C5-43FC-89B2-D3EE3BE5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6E72-89C4-4DD9-9D40-9FDA3A78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6F52-1634-4FA3-880E-BD977A01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AD7F-166D-46AB-A936-75B2D4AE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DAF-3A90-4319-B5B9-9E9EDEF7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F9E7-42E9-4704-ABAC-DC8FCB7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6958-3691-4492-824A-8EF2F3B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0F0A-38E6-4894-BC14-560901A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04C-CD71-46DF-845D-304C5381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D6C6-AF7E-494A-ACB5-4E408935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EFA-FD73-460D-A23F-9D5CA4D0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19D-CC0F-41BC-BCD7-BD5E5EF0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2E3-6673-4315-B978-2DD6DA52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4BE-AB59-4E98-826B-CCA82CD7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BC5-51C6-4B41-916A-C7CD895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844-4CC9-4EDC-BA6E-0B28DD2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786-61CB-402D-A276-9144068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8A8-59CB-4B8E-A8C9-E9B13C39DE0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A6AC-B61C-4DC2-B467-B2359D730F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EACK OB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IME FOR A CHANGE♥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♥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Y OF ELECTION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 NOVEMVBER 4.2008 HISTORY WAS MADE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397512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E MADE A CHANGE AND GAVE HOPE TO ALL FRICAIN AND ASIAIN HISPANIC AMERCIA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NGE IS COME♥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96916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ERY DAY CHANGE IS IN PROGRESS NOW THATHE IS OUR PRESIDENT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317840" cy="4749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E WILL FIGHT FOR HELP IN THE MEDICAL WORLD AND BRAKE ALL BARRIERS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6916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CHANGE ALL AMERCIANS CAN BE PROUD OF♥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OD B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MERC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ND♥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168880" y="1600200"/>
            <a:ext cx="397512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 LOVE SASH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657600" cy="2738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22:41Z</dcterms:created>
  <dc:creator>769579</dc:creator>
  <dc:description/>
  <dc:language>en-US</dc:language>
  <cp:lastModifiedBy>769579</cp:lastModifiedBy>
  <dcterms:modified xsi:type="dcterms:W3CDTF">2008-11-20T16:36:25Z</dcterms:modified>
  <cp:revision>1</cp:revision>
  <dc:subject/>
  <dc:title> BAEACK OBAMA</dc:title>
</cp:coreProperties>
</file>